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gif" ContentType="image/gif"/>
  <Override PartName="/ppt/media/image15.png" ContentType="image/png"/>
  <Override PartName="/ppt/media/image14.png" ContentType="image/png"/>
  <Override PartName="/ppt/media/image5.gif" ContentType="image/gif"/>
  <Override PartName="/ppt/media/image9.png" ContentType="image/png"/>
  <Override PartName="/ppt/media/image10.png" ContentType="image/png"/>
  <Override PartName="/ppt/media/image2.gif" ContentType="image/gif"/>
  <Override PartName="/ppt/media/image6.png" ContentType="image/png"/>
  <Override PartName="/ppt/media/image3.gif" ContentType="image/gif"/>
  <Override PartName="/ppt/media/image12.png" ContentType="image/png"/>
  <Override PartName="/ppt/media/image1.jpeg" ContentType="image/jpeg"/>
  <Override PartName="/ppt/media/image7.png" ContentType="image/png"/>
  <Override PartName="/ppt/media/image4.gif" ContentType="image/gif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463AB-8133-4864-80D6-A7DB8AB411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ADP, ATP and Cellular Respiration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P, ATP and Cellular Respir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When is ATP Made in the Body?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During a Process called Cellular Respiration that takes place in both Plants &amp; Animal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en is ATP Made in the Body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uring a Process called Cellular Respiration that takes place in both Plants &amp; Animal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Cellular Respiration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Includes pathways that require oxygen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Glucose is oxidized and O2 is reduced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Glucose breakdown is therefore an oxidation-reduction reaction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Breakdown of one glucose results in 36 to 38 ATP molecules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ellular Respir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cludes pathways that require oxyge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lucose is oxidized and O2 is reduce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lucose breakdown is therefore an oxidation-reduction reac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reakdown of one glucose results in 36 to 38 ATP molecules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Overall Equation for Cellular Respiration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6CO2 + 6H20 + e- + 36-38ATP’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C6H12O6    + 6O2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YIELD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verall Equation for Cellular Respir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CO2 + 6H20 + e- + 36-38ATP’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6H12O6    + 6O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YIEL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What Type of Process is Cellular Respiration?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An Oxidation-Reduction Process or REDOX Reaction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Oxidation of GLUCOSE --&gt; CO2 + H2O (e- removed from C6H12O6)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Reduction  O2  to  H2O (e- passed to O2)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at Type of Process is Cellular Respiration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n Oxidation-Reduction Process or REDOX Reac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xidation of GLUCOSE --&gt; CO2 + H2O (e- removed from C6H12O6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duction  O2  to  H2O (e- passed to O2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What Carries the Electrons?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NAD+ (nicotinadenine dinucleotide) acts as the energy carrier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NAD+ is a coenzym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It’s Reduced to NADH when it picks up two electrons and one hydrogen ion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at Carries the Electrons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AD+ (nicotinadenine dinucleotide) acts as the energy carri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AD+ is a coenzym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t’s Reduced to NADH when it picks up two electrons and one hydrogen 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Are There Any Other Electron Carriers?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YES! Another Coenzyme!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FAD+ (Flavin adenine dinucleotide)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Reduced to FADH2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re There Any Other Electron Carriers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YES! Another Coenzyme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AD+ (Flavin adenine dinucleotide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duced to FADH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Other Cellular Respiration Fact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Metabolic Pathway that breaks down carbohydrate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Process is Exergonic as High-energy Glucose is broken into CO2 and H2O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Process is also Catabolic because larger Glucose breaks into smaller molecule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ther Cellular Respiration Fac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etabolic Pathway that breaks down carbohydra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rocess is Exergonic as High-energy Glucose is broken into CO2 and H2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rocess is also Catabolic because larger Glucose breaks into smaller molecul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What are the Stages of Cellular Respiration?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Glycolysi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The Krebs Cycl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The Electron Transport Chain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at are the Stages of Cellular Respiration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lycolysi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Krebs Cyc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Electron Transport Chai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Where Does Cellular Respiration Take Place?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It actually takes place in two parts of the cell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Glycolysis occurs in the Cytoplasm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Krebs Cycle &amp; ETC Take place in the Mitochondria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ere Does Cellular Respiration Take Plac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t actually takes place in two parts of the cell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lycolysis occurs in the Cytoplas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Krebs Cycle &amp; ETC Take place in the Mitochondri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Review of Mitochondria Structur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Smooth outer Membran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Folded inner membran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Folds called Crista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Space inside cristae called the Matrix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Review of Mitochondria Struct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Smooth outer Membra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Folded inner membra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Folds called Crista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Space inside cristae called the Matrix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What Is ATP?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Energy used by all Cell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Adenosine Triphosphat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Organic molecule containing high-energy Phosphate bond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at Is ATP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nergy used by all Cell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enosine Triphospha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rganic molecule containing high-energy Phosphate bo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Diagram of the Proces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Occurs in Cytoplasm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Occurs in Matrix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Occurs across Crista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iagram of the Proces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ccurs in Cytoplas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ccurs in Matrix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ccurs across Crista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Glycolysis Summary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Takes place in the Cytoplasm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Anaerobic (Doesn’t Use Oxygen)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Requires input of 2 ATP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Glucose split into two molecules of Pyruvate or Pyruvic Acid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Glycolysis Summa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Takes place in the Cytoplas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naerobic (Doesn’t Use Oxygen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Requires input of 2 ATP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Glucose split into two molecules of Pyruvate or Pyruvic Aci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Glycolysis Summary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Also produces 2 NADH and 4 ATP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Pyruvate is oxidized to Acetyl CoA and CO2 is removed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lycolysis Summa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lso produces 2 NADH and 4 ATP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yruvate is oxidized to Acetyl CoA and CO2 is remove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Glycolysis Diagram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Glycolysis Diagra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Fermentation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Occurs when O2 NOT present (anaerobic)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Called Lactic Acid fermentation in muscle cells (makes muscles tired)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Called Alcoholic fermentation in yeast (produces ethanol)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Nets only 2 ATP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erment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ccurs when O2 NOT present (anaerobic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alled Lactic Acid fermentation in muscle cells (makes muscles tired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alled Alcoholic fermentation in yeast (produces ethanol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ets only 2 ATP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A Little Krebs Cycle History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Discovered by Hans Krebs in 1937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He received the Nobel Prize in physiology or medicine in 1953 for his discovery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Forced to leave Germany prior to WWII because he was Jewish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 Little Krebs Cycle Histo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iscovered by Hans Krebs in 193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e received the Nobel Prize in physiology or medicine in 1953 for his discove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orced to leave Germany prior to WWII because he was Jewis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Krebs Cycle Summary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Requires Oxygen (Aerobic)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Cyclical series of oxidation reactions that give off CO2 and produce one ATP per cycl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Turns twice per glucose molecul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Produces two ATP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Takes place in matrix of mitochondria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Krebs Cycle Summa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Requires Oxygen (Aerobic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Cyclical series of oxidation reactions that give off CO2 and produce one ATP per cyc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Turns twice per glucose molecu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Produces two ATP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Takes place in matrix of mitochondri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Krebs Cycle Summary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Each turn of the Krebs Cycle also produces 3NADH, 1FADH2, and 2CO2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Therefore, For each Glucose molecule, the Krebs Cycle produces 6NADH, 2FADH2, 4CO2, and 2ATP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Krebs Cycle Summa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ach turn of the Krebs Cycle also produces 3NADH, 1FADH2, and 2CO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refore, For each Glucose molecule, the Krebs Cycle produces 6NADH, 2FADH2, 4CO2, and 2ATP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Krebs Cycl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ATP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NETS: 3NADH, 1ATP, 1FADH2, &amp; 2CO2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Krebs Cyc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TP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NETS: 3NADH, 1ATP, 1FADH2, &amp; 2CO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Electron Transport Chain Summary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34 ATP Produced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H2O Produced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Occurs Across Inner Mitochondrial membran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Uses coenzymes NAD+ and FAD+ to accept e- from glucos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NADH = 3 ATP’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FADH2 = 2 ATP’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Electron Transport Chain Summa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34 ATP Produce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H2O Produce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Occurs Across Inner Mitochondrial membra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Uses coenzymes NAD+ and FAD+ to accept e- from gluco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NADH = 3 ATP’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FADH2 = 2 ATP’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Chemical Structure of ATP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3 Phosphate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Ribose Sugar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Adenine Bas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emical Structure of ATP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 Phospha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ibose Suga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enine Ba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Electron Transport Chain Animation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Electron Transport Chain Anim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What Does ATP Do for You?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It supplies YOU with ENERGY!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at Does ATP Do for You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t supplies YOU with ENERGY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How Do We Get Energy From ATP?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By breaking the high- energy bonds between the last two phosphates in ATP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ow Do We Get Energy From ATP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y breaking the high- energy bonds between the last two phosphates in ATP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What is the Process Called?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HYDROLYSIS (Adding H2O)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H2O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at is the Process Called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YDROLYSIS (Adding H2O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How Does That Happen?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ATPas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An Enzyme!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ow Does That Happen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TPa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n Enzyme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How is ATP Re-Made?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The reverse of the previous process occurs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Another Enzyme is used!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ATP Synthetas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ow is ATP Re-Mad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reverse of the previous process occur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nother Enzyme is used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TP Syntheta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The ADP-ATP Cycl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ATP-as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ATP Synthetas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The ADP-ATP Cyc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TP-a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TP Syntheta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D5E0-2BE7-4BA9-A1A1-678246B24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5407-18AD-46D8-AF82-236F03818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29F6-D222-4041-B38C-D0101C9CD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E181-F737-4437-A5F2-7CAD7A6CB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C17AE-05BB-4D71-900A-FC6C36E4B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B4E0E-3ADD-40E3-90C9-C6BFD27E4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A11E5-4929-4D48-A3D4-2F6F2FBF1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F3840-BB1C-4D2A-ACB8-71B1E7D9A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93689-F6FF-48DD-9FB6-B8A411138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45ABE-F578-4BA1-BAF8-768320D04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058E4-B64B-4282-A9ED-28CEE0519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E153-13D3-45F6-9CC4-FEB10E138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620F7-F857-48B2-AB21-489AD9551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61A31-AECC-4239-BD64-1E664B5F5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D7ECE-9338-4CEB-9C84-6B6C18C15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62522-5C7F-4206-AD87-05548D505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9FA45-48BB-431D-8D83-C8BEA6915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3155-4F43-43FC-BE59-B9FA20709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B338-2540-4604-B914-67B1BA6F2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3B57-6DC5-4ABB-BF9F-7ECB63AFB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B886-7227-488F-91A1-D2870B859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40A5-1A78-40CF-BF62-DE6868FE9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8C16-22EE-41A6-ABFB-7446373D6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19B2-BEA5-48FE-8034-D6A3D7731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57AD8-DD35-472E-A6C0-3659E22EA0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0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5000" y="1552680"/>
              <a:ext cx="6726240" cy="5305320"/>
            </a:xfrm>
            <a:custGeom>
              <a:avLst/>
              <a:gdLst/>
              <a:ahLst/>
              <a:rect l="l" t="t" r="r" b="b"/>
              <a:pathLst>
                <a:path fill="none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</a:path>
                <a:path stroke="0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  <a:lnTo>
                    <a:pt x="0" y="21231"/>
                  </a:lnTo>
                  <a:lnTo>
                    <a:pt x="3976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F51A2-CF6C-4D54-8572-F37B4783F9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www.science.smith.edu/departments/Biology/Bio231/etc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cc66"/>
                </a:solidFill>
                <a:latin typeface="Comic Sans MS"/>
              </a:rPr>
              <a:t>ADP, ATP and Cellular Respiration</a:t>
            </a:r>
            <a:endParaRPr b="0" lang="en-US" sz="72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Comic Sans MS"/>
              </a:rPr>
              <a:t>When is ATP Made in the Body?</a:t>
            </a: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80880" y="236232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During a Process called </a:t>
            </a: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Cellular Respiration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 that takes place in both </a:t>
            </a: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Plants &amp; Animals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44" name="Picture 11" descr="Copy of heart[1]"/>
          <p:cNvPicPr/>
          <p:nvPr/>
        </p:nvPicPr>
        <p:blipFill>
          <a:blip r:embed="rId1"/>
          <a:stretch/>
        </p:blipFill>
        <p:spPr>
          <a:xfrm>
            <a:off x="4572000" y="2511360"/>
            <a:ext cx="4191120" cy="3813120"/>
          </a:xfrm>
          <a:prstGeom prst="rect">
            <a:avLst/>
          </a:prstGeom>
          <a:ln w="0">
            <a:noFill/>
          </a:ln>
        </p:spPr>
      </p:pic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0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Comic Sans MS"/>
              </a:rPr>
              <a:t>Cellular Respiration</a:t>
            </a:r>
            <a:endParaRPr b="0" lang="en-US" sz="48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61760" y="15235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28120" indent="-52812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Includes pathways that require oxygen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528120" indent="-52812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Glucose is </a:t>
            </a: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oxidized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 and O</a:t>
            </a:r>
            <a:r>
              <a:rPr b="1" lang="en-US" sz="3600" spc="-1" strike="noStrike" baseline="-30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 is </a:t>
            </a: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reduced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528120" indent="-52812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Glucose breakdown is therefore an </a:t>
            </a:r>
            <a:r>
              <a:rPr b="1" i="1" lang="en-US" sz="3600" spc="-1" strike="noStrike">
                <a:solidFill>
                  <a:srgbClr val="ffcc66"/>
                </a:solidFill>
                <a:latin typeface="Comic Sans MS"/>
              </a:rPr>
              <a:t>oxidation-reduction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 reaction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528120" indent="-52812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Breakdown of one glucose results in </a:t>
            </a: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36 to 38 ATP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 molecules 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51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Comic Sans MS"/>
              </a:rPr>
              <a:t>Overall Equation for Cellular Respiration</a:t>
            </a:r>
            <a:endParaRPr b="0" lang="en-US" sz="48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077320" cy="3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5000"/>
          </a:bodyPr>
          <a:p>
            <a:pPr marL="856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1" name="Text Box 7"/>
          <p:cNvSpPr/>
          <p:nvPr/>
        </p:nvSpPr>
        <p:spPr>
          <a:xfrm>
            <a:off x="0" y="5791320"/>
            <a:ext cx="9144000" cy="8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Comic Sans MS"/>
              </a:rPr>
              <a:t>6CO</a:t>
            </a:r>
            <a:r>
              <a:rPr b="1" lang="en-US" sz="4400" spc="-1" strike="noStrike" baseline="-30000">
                <a:solidFill>
                  <a:srgbClr val="ffcc66"/>
                </a:solidFill>
                <a:latin typeface="Comic Sans MS"/>
              </a:rPr>
              <a:t>2</a:t>
            </a:r>
            <a:r>
              <a:rPr b="1" lang="en-US" sz="4400" spc="-1" strike="noStrike">
                <a:solidFill>
                  <a:srgbClr val="ffcc66"/>
                </a:solidFill>
                <a:latin typeface="Comic Sans MS"/>
              </a:rPr>
              <a:t> + 6H</a:t>
            </a:r>
            <a:r>
              <a:rPr b="1" lang="en-US" sz="4400" spc="-1" strike="noStrike" baseline="-30000">
                <a:solidFill>
                  <a:srgbClr val="ffcc66"/>
                </a:solidFill>
                <a:latin typeface="Comic Sans MS"/>
              </a:rPr>
              <a:t>2</a:t>
            </a:r>
            <a:r>
              <a:rPr b="1" lang="en-US" sz="4400" spc="-1" strike="noStrike">
                <a:solidFill>
                  <a:srgbClr val="ffcc66"/>
                </a:solidFill>
                <a:latin typeface="Comic Sans MS"/>
              </a:rPr>
              <a:t>0 + e</a:t>
            </a:r>
            <a:r>
              <a:rPr b="1" lang="en-US" sz="4400" spc="-1" strike="noStrike" baseline="30000">
                <a:solidFill>
                  <a:srgbClr val="ffcc66"/>
                </a:solidFill>
                <a:latin typeface="Comic Sans MS"/>
              </a:rPr>
              <a:t>-</a:t>
            </a:r>
            <a:r>
              <a:rPr b="1" lang="en-US" sz="4400" spc="-1" strike="noStrike">
                <a:solidFill>
                  <a:srgbClr val="ffcc66"/>
                </a:solidFill>
                <a:latin typeface="Comic Sans MS"/>
              </a:rPr>
              <a:t> + 36-38</a:t>
            </a:r>
            <a:r>
              <a:rPr b="1" lang="en-US" sz="4000" spc="-1" strike="noStrike">
                <a:solidFill>
                  <a:srgbClr val="ffcc66"/>
                </a:solidFill>
                <a:latin typeface="Comic Sans MS"/>
              </a:rPr>
              <a:t>ATP’s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2" name="Text Box 8"/>
          <p:cNvSpPr/>
          <p:nvPr/>
        </p:nvSpPr>
        <p:spPr>
          <a:xfrm>
            <a:off x="1219320" y="2430360"/>
            <a:ext cx="6019560" cy="9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Comic Sans MS"/>
              </a:rPr>
              <a:t>C</a:t>
            </a:r>
            <a:r>
              <a:rPr b="1" lang="en-US" sz="4800" spc="-1" strike="noStrike" baseline="-30000">
                <a:solidFill>
                  <a:srgbClr val="ffcc66"/>
                </a:solidFill>
                <a:latin typeface="Comic Sans MS"/>
              </a:rPr>
              <a:t>6</a:t>
            </a:r>
            <a:r>
              <a:rPr b="1" lang="en-US" sz="4800" spc="-1" strike="noStrike">
                <a:solidFill>
                  <a:srgbClr val="ffcc66"/>
                </a:solidFill>
                <a:latin typeface="Comic Sans MS"/>
              </a:rPr>
              <a:t>H</a:t>
            </a:r>
            <a:r>
              <a:rPr b="1" lang="en-US" sz="4800" spc="-1" strike="noStrike" baseline="-30000">
                <a:solidFill>
                  <a:srgbClr val="ffcc66"/>
                </a:solidFill>
                <a:latin typeface="Comic Sans MS"/>
              </a:rPr>
              <a:t>12</a:t>
            </a:r>
            <a:r>
              <a:rPr b="1" lang="en-US" sz="4800" spc="-1" strike="noStrike">
                <a:solidFill>
                  <a:srgbClr val="ffcc66"/>
                </a:solidFill>
                <a:latin typeface="Comic Sans MS"/>
              </a:rPr>
              <a:t>O</a:t>
            </a:r>
            <a:r>
              <a:rPr b="1" lang="en-US" sz="4800" spc="-1" strike="noStrike" baseline="-30000">
                <a:solidFill>
                  <a:srgbClr val="ffcc66"/>
                </a:solidFill>
                <a:latin typeface="Comic Sans MS"/>
              </a:rPr>
              <a:t>6    </a:t>
            </a:r>
            <a:r>
              <a:rPr b="1" lang="en-US" sz="4800" spc="-1" strike="noStrike">
                <a:solidFill>
                  <a:srgbClr val="ffcc66"/>
                </a:solidFill>
                <a:latin typeface="Comic Sans MS"/>
              </a:rPr>
              <a:t>+ 6O</a:t>
            </a:r>
            <a:r>
              <a:rPr b="1" lang="en-US" sz="4800" spc="-1" strike="noStrike" baseline="-30000">
                <a:solidFill>
                  <a:srgbClr val="ffcc66"/>
                </a:solidFill>
                <a:latin typeface="Comic Sans MS"/>
              </a:rPr>
              <a:t>2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3" name="Text Box 10"/>
          <p:cNvSpPr/>
          <p:nvPr/>
        </p:nvSpPr>
        <p:spPr>
          <a:xfrm>
            <a:off x="3276720" y="4191120"/>
            <a:ext cx="2819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YIELDS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4" name="Line 11"/>
          <p:cNvSpPr/>
          <p:nvPr/>
        </p:nvSpPr>
        <p:spPr>
          <a:xfrm>
            <a:off x="4495680" y="3429000"/>
            <a:ext cx="0" cy="6858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5" name="Line 12"/>
          <p:cNvSpPr/>
          <p:nvPr/>
        </p:nvSpPr>
        <p:spPr>
          <a:xfrm>
            <a:off x="4572000" y="5029200"/>
            <a:ext cx="0" cy="8380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Comic Sans MS"/>
              </a:rPr>
              <a:t>What Type of Process is Cellular Respiration?</a:t>
            </a: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2209320"/>
            <a:ext cx="792504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An Oxidation-Reduction Process or REDOX Reaction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Oxidation of GLUCOSE --&gt; CO</a:t>
            </a:r>
            <a:r>
              <a:rPr b="1" lang="en-US" sz="3600" spc="-1" strike="noStrike" baseline="-30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 + H</a:t>
            </a:r>
            <a:r>
              <a:rPr b="1" lang="en-US" sz="3600" spc="-1" strike="noStrike" baseline="-30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O </a:t>
            </a: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(e</a:t>
            </a:r>
            <a:r>
              <a:rPr b="1" lang="en-US" sz="3600" spc="-1" strike="noStrike" baseline="30000">
                <a:solidFill>
                  <a:srgbClr val="ffcc66"/>
                </a:solidFill>
                <a:latin typeface="Comic Sans MS"/>
              </a:rPr>
              <a:t>-</a:t>
            </a: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 removed from C</a:t>
            </a:r>
            <a:r>
              <a:rPr b="1" lang="en-US" sz="3600" spc="-1" strike="noStrike" baseline="-25000">
                <a:solidFill>
                  <a:srgbClr val="ffcc66"/>
                </a:solidFill>
                <a:latin typeface="Comic Sans MS"/>
              </a:rPr>
              <a:t>6</a:t>
            </a: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H</a:t>
            </a:r>
            <a:r>
              <a:rPr b="1" lang="en-US" sz="3600" spc="-1" strike="noStrike" baseline="-25000">
                <a:solidFill>
                  <a:srgbClr val="ffcc66"/>
                </a:solidFill>
                <a:latin typeface="Comic Sans MS"/>
              </a:rPr>
              <a:t>12</a:t>
            </a: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O</a:t>
            </a:r>
            <a:r>
              <a:rPr b="1" lang="en-US" sz="3600" spc="-1" strike="noStrike" baseline="-25000">
                <a:solidFill>
                  <a:srgbClr val="ffcc66"/>
                </a:solidFill>
                <a:latin typeface="Comic Sans MS"/>
              </a:rPr>
              <a:t>6</a:t>
            </a: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Reduction  O</a:t>
            </a:r>
            <a:r>
              <a:rPr b="1" lang="en-US" sz="3600" spc="-1" strike="noStrike" baseline="-30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  to  H</a:t>
            </a:r>
            <a:r>
              <a:rPr b="1" lang="en-US" sz="3600" spc="-1" strike="noStrike" baseline="-30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O </a:t>
            </a: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(e</a:t>
            </a:r>
            <a:r>
              <a:rPr b="1" lang="en-US" sz="3600" spc="-1" strike="noStrike" baseline="30000">
                <a:solidFill>
                  <a:srgbClr val="ffcc66"/>
                </a:solidFill>
                <a:latin typeface="Comic Sans MS"/>
              </a:rPr>
              <a:t>-</a:t>
            </a: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 passed to O</a:t>
            </a:r>
            <a:r>
              <a:rPr b="1" lang="en-US" sz="3600" spc="-1" strike="noStrike" baseline="-25000">
                <a:solidFill>
                  <a:srgbClr val="ffcc66"/>
                </a:solidFill>
                <a:latin typeface="Comic Sans MS"/>
              </a:rPr>
              <a:t>2</a:t>
            </a: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24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omic Sans MS"/>
              </a:rPr>
              <a:t>What Carries the Electrons?</a:t>
            </a: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47960" y="17524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464040" indent="-4640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NAD</a:t>
            </a:r>
            <a:r>
              <a:rPr b="1" lang="en-US" sz="3200" spc="-1" strike="noStrike" baseline="30000">
                <a:solidFill>
                  <a:srgbClr val="ffff00"/>
                </a:solidFill>
                <a:latin typeface="Comic Sans MS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(nicotinadenine dinucleotide) acts as the energy carrier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464040" indent="-4640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NAD</a:t>
            </a:r>
            <a:r>
              <a:rPr b="1" lang="en-US" sz="2900" spc="-1" strike="noStrike" baseline="30000">
                <a:solidFill>
                  <a:srgbClr val="ffffff"/>
                </a:solidFill>
                <a:latin typeface="Comic Sans MS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is a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coenzym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464040" indent="-4640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It’s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Reduced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to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NADH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when it picks up two electrons and one hydrogen ion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2" name="Rectangle 6"/>
          <p:cNvSpPr/>
          <p:nvPr/>
        </p:nvSpPr>
        <p:spPr>
          <a:xfrm>
            <a:off x="3657600" y="23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63" name="Picture 7" descr="alcferm"/>
          <p:cNvPicPr/>
          <p:nvPr/>
        </p:nvPicPr>
        <p:blipFill>
          <a:blip r:embed="rId1"/>
          <a:srcRect l="27119" t="27458" r="36729" b="0"/>
          <a:stretch/>
        </p:blipFill>
        <p:spPr>
          <a:xfrm>
            <a:off x="480960" y="1600200"/>
            <a:ext cx="3889440" cy="4876920"/>
          </a:xfrm>
          <a:prstGeom prst="rect">
            <a:avLst/>
          </a:prstGeom>
          <a:ln w="0">
            <a:noFill/>
          </a:ln>
        </p:spPr>
      </p:pic>
      <p:sp>
        <p:nvSpPr>
          <p:cNvPr id="1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7" dur="8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8" dur="8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omic Sans MS"/>
              </a:rPr>
              <a:t>Are There Any Other Electron Carriers?</a:t>
            </a: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288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YES! Another Coenzyme!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FAD+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(Flavin adenine dinucleotide)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Reduced</a:t>
            </a: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 to FADH</a:t>
            </a:r>
            <a:r>
              <a:rPr b="1" lang="en-US" sz="3600" spc="-1" strike="noStrike" baseline="-25000">
                <a:solidFill>
                  <a:srgbClr val="ffcc66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67" name="Picture 6" descr="etransport[1]"/>
          <p:cNvPicPr/>
          <p:nvPr/>
        </p:nvPicPr>
        <p:blipFill>
          <a:blip r:embed="rId1"/>
          <a:stretch/>
        </p:blipFill>
        <p:spPr>
          <a:xfrm>
            <a:off x="228600" y="1905120"/>
            <a:ext cx="4572000" cy="4419360"/>
          </a:xfrm>
          <a:prstGeom prst="rect">
            <a:avLst/>
          </a:prstGeom>
          <a:ln w="0">
            <a:noFill/>
          </a:ln>
        </p:spPr>
      </p:pic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20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7" dur="20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Comic Sans MS"/>
              </a:rPr>
              <a:t>Other Cellular Respiration Facts</a:t>
            </a: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Comic Sans MS"/>
              </a:rPr>
              <a:t>Metabolic Pathway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that breaks down carbohydrate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Process is </a:t>
            </a:r>
            <a:r>
              <a:rPr b="1" lang="en-US" sz="3200" spc="-1" strike="noStrike">
                <a:solidFill>
                  <a:srgbClr val="ffcc66"/>
                </a:solidFill>
                <a:latin typeface="Comic Sans MS"/>
              </a:rPr>
              <a:t>Exergonic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as High-energy Glucose is broken into CO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and 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O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Process is also </a:t>
            </a:r>
            <a:r>
              <a:rPr b="1" lang="en-US" sz="3200" spc="-1" strike="noStrike">
                <a:solidFill>
                  <a:srgbClr val="ffcc66"/>
                </a:solidFill>
                <a:latin typeface="Comic Sans MS"/>
              </a:rPr>
              <a:t>Catabolic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because larger Glucose breaks into smaller molecule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20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" dur="2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2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9" dur="8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0" dur="8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1" dur="8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Comic Sans MS"/>
              </a:rPr>
              <a:t>What are the Stages of Cellular Respiration?</a:t>
            </a:r>
            <a:endParaRPr b="0" lang="en-US" sz="48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3520" y="30481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Glycolysis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The Krebs Cycle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The Electron Transport Chain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9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Comic Sans MS"/>
              </a:rPr>
              <a:t>Where Does Cellular Respiration Take Place?</a:t>
            </a: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-360" y="1676520"/>
            <a:ext cx="380988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It actually takes place in two parts of the cell: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7" name="Text Box 10"/>
          <p:cNvSpPr/>
          <p:nvPr/>
        </p:nvSpPr>
        <p:spPr>
          <a:xfrm>
            <a:off x="228600" y="3809880"/>
            <a:ext cx="3657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Comic Sans MS"/>
              </a:rPr>
              <a:t>Glycolysis occurs in the Cytoplasm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8" name="Text Box 11"/>
          <p:cNvSpPr/>
          <p:nvPr/>
        </p:nvSpPr>
        <p:spPr>
          <a:xfrm>
            <a:off x="228600" y="4952880"/>
            <a:ext cx="3733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Comic Sans MS"/>
              </a:rPr>
              <a:t>Krebs Cycle &amp; ETC Tak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cc66"/>
                </a:solidFill>
                <a:latin typeface="Comic Sans MS"/>
              </a:rPr>
              <a:t>place in the Mitochondria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79" name="Picture 14" descr="mitochondria[1]"/>
          <p:cNvPicPr/>
          <p:nvPr/>
        </p:nvPicPr>
        <p:blipFill>
          <a:blip r:embed="rId1"/>
          <a:stretch/>
        </p:blipFill>
        <p:spPr>
          <a:xfrm>
            <a:off x="4245120" y="1676520"/>
            <a:ext cx="4765680" cy="4876560"/>
          </a:xfrm>
          <a:prstGeom prst="rect">
            <a:avLst/>
          </a:prstGeom>
          <a:ln w="0">
            <a:noFill/>
          </a:ln>
        </p:spPr>
      </p:pic>
      <p:sp>
        <p:nvSpPr>
          <p:cNvPr id="180" name="Line 15"/>
          <p:cNvSpPr/>
          <p:nvPr/>
        </p:nvSpPr>
        <p:spPr>
          <a:xfrm flipV="1">
            <a:off x="3733920" y="5714640"/>
            <a:ext cx="2743200" cy="60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Comic Sans MS"/>
              </a:rPr>
              <a:t>Review of Mitochondria Structure</a:t>
            </a: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Smooth</a:t>
            </a:r>
            <a:r>
              <a:rPr b="1" lang="en-US" sz="3200" spc="-1" strike="noStrike">
                <a:solidFill>
                  <a:srgbClr val="ffcc66"/>
                </a:solidFill>
                <a:latin typeface="Comic Sans MS"/>
              </a:rPr>
              <a:t> outer Membran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Folded</a:t>
            </a:r>
            <a:r>
              <a:rPr b="1" lang="en-US" sz="3200" spc="-1" strike="noStrike">
                <a:solidFill>
                  <a:srgbClr val="ffcc66"/>
                </a:solidFill>
                <a:latin typeface="Comic Sans MS"/>
              </a:rPr>
              <a:t> inner membran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Comic Sans MS"/>
              </a:rPr>
              <a:t>Folds called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Crista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Comic Sans MS"/>
              </a:rPr>
              <a:t>Space inside cristae called the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Matrix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84" name="Picture 5" descr="mitochondria[1]"/>
          <p:cNvPicPr/>
          <p:nvPr/>
        </p:nvPicPr>
        <p:blipFill>
          <a:blip r:embed="rId1"/>
          <a:stretch/>
        </p:blipFill>
        <p:spPr>
          <a:xfrm>
            <a:off x="4648320" y="1905120"/>
            <a:ext cx="4190760" cy="4495680"/>
          </a:xfrm>
          <a:prstGeom prst="rect">
            <a:avLst/>
          </a:prstGeom>
          <a:ln w="0">
            <a:noFill/>
          </a:ln>
        </p:spPr>
      </p:pic>
      <p:sp>
        <p:nvSpPr>
          <p:cNvPr id="1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66"/>
                </a:solidFill>
                <a:latin typeface="Comic Sans MS"/>
              </a:rPr>
              <a:t>What Is ATP?</a:t>
            </a:r>
            <a:endParaRPr b="0" lang="en-US" sz="5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304920" y="213372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Energy used by all Cells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228600" y="320040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Adenosine Triphosphate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0" name="Text Box 9"/>
          <p:cNvSpPr/>
          <p:nvPr/>
        </p:nvSpPr>
        <p:spPr>
          <a:xfrm>
            <a:off x="457200" y="449568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Organic molecule containing high-energy Phosphate bonds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Comic Sans MS"/>
              </a:rPr>
              <a:t>Diagram of the Process</a:t>
            </a:r>
            <a:endParaRPr b="0" lang="en-US" sz="4800" spc="-1" strike="noStrike">
              <a:solidFill>
                <a:srgbClr val="ffcc66"/>
              </a:solidFill>
              <a:latin typeface="Comic Sans MS"/>
            </a:endParaRPr>
          </a:p>
        </p:txBody>
      </p:sp>
      <p:pic>
        <p:nvPicPr>
          <p:cNvPr id="187" name="Picture 7" descr="Overview[1]"/>
          <p:cNvPicPr/>
          <p:nvPr/>
        </p:nvPicPr>
        <p:blipFill>
          <a:blip r:embed="rId1"/>
          <a:stretch/>
        </p:blipFill>
        <p:spPr>
          <a:xfrm>
            <a:off x="533520" y="1600200"/>
            <a:ext cx="8153280" cy="487692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8"/>
          <p:cNvSpPr/>
          <p:nvPr/>
        </p:nvSpPr>
        <p:spPr>
          <a:xfrm>
            <a:off x="533520" y="48006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9" name="Text Box 9"/>
          <p:cNvSpPr/>
          <p:nvPr/>
        </p:nvSpPr>
        <p:spPr>
          <a:xfrm>
            <a:off x="228600" y="4724280"/>
            <a:ext cx="1752480" cy="11912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ccurs in Cytoplasm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0" name="Line 10"/>
          <p:cNvSpPr/>
          <p:nvPr/>
        </p:nvSpPr>
        <p:spPr>
          <a:xfrm flipV="1">
            <a:off x="1143000" y="4266720"/>
            <a:ext cx="762120" cy="381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1" name="Text Box 11"/>
          <p:cNvSpPr/>
          <p:nvPr/>
        </p:nvSpPr>
        <p:spPr>
          <a:xfrm>
            <a:off x="3200400" y="5715000"/>
            <a:ext cx="1752480" cy="8254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ccurs in Matrix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2" name="Line 12"/>
          <p:cNvSpPr/>
          <p:nvPr/>
        </p:nvSpPr>
        <p:spPr>
          <a:xfrm flipV="1">
            <a:off x="4267080" y="4343400"/>
            <a:ext cx="990720" cy="1447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3" name="Text Box 13"/>
          <p:cNvSpPr/>
          <p:nvPr/>
        </p:nvSpPr>
        <p:spPr>
          <a:xfrm>
            <a:off x="7467480" y="1600200"/>
            <a:ext cx="1676520" cy="11912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ccurs across Crista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4" name="Line 14"/>
          <p:cNvSpPr/>
          <p:nvPr/>
        </p:nvSpPr>
        <p:spPr>
          <a:xfrm flipH="1">
            <a:off x="7162560" y="2819520"/>
            <a:ext cx="990360" cy="10666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66"/>
                </a:solidFill>
                <a:latin typeface="Comic Sans MS"/>
              </a:rPr>
              <a:t>Glycolysis Summary</a:t>
            </a:r>
            <a:endParaRPr b="0" lang="en-US" sz="5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197" name="Text Box 3"/>
          <p:cNvSpPr/>
          <p:nvPr/>
        </p:nvSpPr>
        <p:spPr>
          <a:xfrm>
            <a:off x="685800" y="220968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Comic Sans MS"/>
              </a:rPr>
              <a:t>Takes place in the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Cytoplasm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8" name="Text Box 4"/>
          <p:cNvSpPr/>
          <p:nvPr/>
        </p:nvSpPr>
        <p:spPr>
          <a:xfrm>
            <a:off x="762120" y="304812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Anaerobic </a:t>
            </a:r>
            <a:r>
              <a:rPr b="1" lang="en-US" sz="3200" spc="-1" strike="noStrike">
                <a:solidFill>
                  <a:srgbClr val="ffcc66"/>
                </a:solidFill>
                <a:latin typeface="Comic Sans MS"/>
              </a:rPr>
              <a:t>(Doesn’t Use Oxygen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9" name="Text Box 5"/>
          <p:cNvSpPr/>
          <p:nvPr/>
        </p:nvSpPr>
        <p:spPr>
          <a:xfrm>
            <a:off x="762120" y="396252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Requires input of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2 ATP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0" name="Text Box 6"/>
          <p:cNvSpPr/>
          <p:nvPr/>
        </p:nvSpPr>
        <p:spPr>
          <a:xfrm>
            <a:off x="914400" y="5181480"/>
            <a:ext cx="7238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Comic Sans MS"/>
              </a:rPr>
              <a:t>Glucose split into two molecules of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Pyruvate</a:t>
            </a:r>
            <a:r>
              <a:rPr b="1" lang="en-US" sz="3200" spc="-1" strike="noStrike">
                <a:solidFill>
                  <a:srgbClr val="ffcc66"/>
                </a:solidFill>
                <a:latin typeface="Comic Sans MS"/>
              </a:rPr>
              <a:t> or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Pyruvic Acid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66"/>
                </a:solidFill>
                <a:latin typeface="Comic Sans MS"/>
              </a:rPr>
              <a:t>Glycolysis Summary</a:t>
            </a:r>
            <a:endParaRPr b="0" lang="en-US" sz="5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Also produces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2 NADH and 4 ATP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Pyruvate is oxidized to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Acetyl CoA</a:t>
            </a: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 and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CO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 is removed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10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2" dur="8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3" dur="8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8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8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1447920"/>
            <a:ext cx="27432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omic Sans MS"/>
              </a:rPr>
              <a:t>Glycolysis Diagram</a:t>
            </a: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pic>
        <p:nvPicPr>
          <p:cNvPr id="206" name="Picture 7" descr="glyco[1]"/>
          <p:cNvPicPr/>
          <p:nvPr/>
        </p:nvPicPr>
        <p:blipFill>
          <a:blip r:embed="rId1"/>
          <a:stretch/>
        </p:blipFill>
        <p:spPr>
          <a:xfrm>
            <a:off x="2895480" y="380880"/>
            <a:ext cx="5972400" cy="6162840"/>
          </a:xfrm>
          <a:prstGeom prst="rect">
            <a:avLst/>
          </a:prstGeom>
          <a:ln w="0">
            <a:noFill/>
          </a:ln>
        </p:spPr>
      </p:pic>
      <p:sp>
        <p:nvSpPr>
          <p:cNvPr id="2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Comic Sans MS"/>
              </a:rPr>
              <a:t>Fermentation</a:t>
            </a:r>
            <a:endParaRPr b="0" lang="en-US" sz="48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209" name="Text Box 3"/>
          <p:cNvSpPr/>
          <p:nvPr/>
        </p:nvSpPr>
        <p:spPr>
          <a:xfrm>
            <a:off x="457200" y="1752480"/>
            <a:ext cx="8458200" cy="48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cc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Occurs when O</a:t>
            </a:r>
            <a:r>
              <a:rPr b="1" lang="en-US" sz="3600" spc="-1" strike="noStrike" baseline="-25000">
                <a:solidFill>
                  <a:srgbClr val="ffcc66"/>
                </a:solidFill>
                <a:latin typeface="Comic Sans MS"/>
              </a:rPr>
              <a:t>2</a:t>
            </a: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 NOT present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(anaerobic)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251"/>
              </a:spcBef>
              <a:buClr>
                <a:srgbClr val="ffcc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Called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Lactic Acid</a:t>
            </a: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 fermentation in muscle cells (makes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muscles tired</a:t>
            </a: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251"/>
              </a:spcBef>
              <a:buClr>
                <a:srgbClr val="ffcc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Called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Alcoholic fermentation</a:t>
            </a: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 in yeast (produces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ethanol</a:t>
            </a: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251"/>
              </a:spcBef>
              <a:buClr>
                <a:srgbClr val="ffcc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Nets only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2 ATP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4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omic Sans MS"/>
              </a:rPr>
              <a:t>A Little Krebs Cycle History</a:t>
            </a: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1640" y="1752120"/>
            <a:ext cx="3809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Comic Sans MS"/>
              </a:rPr>
              <a:t>Discovered by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Hans Krebs</a:t>
            </a:r>
            <a:r>
              <a:rPr b="1" lang="en-US" sz="2800" spc="-1" strike="noStrike">
                <a:solidFill>
                  <a:srgbClr val="ffcc66"/>
                </a:solidFill>
                <a:latin typeface="Comic Sans MS"/>
              </a:rPr>
              <a:t> in 1937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Comic Sans MS"/>
              </a:rPr>
              <a:t>He received the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Nobel Prize</a:t>
            </a:r>
            <a:r>
              <a:rPr b="1" lang="en-US" sz="2800" spc="-1" strike="noStrike">
                <a:solidFill>
                  <a:srgbClr val="ffcc66"/>
                </a:solidFill>
                <a:latin typeface="Comic Sans MS"/>
              </a:rPr>
              <a:t> in physiology or medicine in 1953 for his discovery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Comic Sans MS"/>
              </a:rPr>
              <a:t>Forced to leave Germany prior to WWII because he was Jewish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13" name="Picture 6" descr="krebs"/>
          <p:cNvPicPr/>
          <p:nvPr/>
        </p:nvPicPr>
        <p:blipFill>
          <a:blip r:embed="rId1"/>
          <a:stretch/>
        </p:blipFill>
        <p:spPr>
          <a:xfrm>
            <a:off x="762120" y="1828800"/>
            <a:ext cx="3284280" cy="4648320"/>
          </a:xfrm>
          <a:prstGeom prst="rect">
            <a:avLst/>
          </a:prstGeom>
          <a:ln w="0">
            <a:noFill/>
          </a:ln>
        </p:spPr>
      </p:pic>
      <p:sp>
        <p:nvSpPr>
          <p:cNvPr id="2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2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7" dur="5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2" dur="5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66"/>
                </a:solidFill>
                <a:latin typeface="Comic Sans MS"/>
              </a:rPr>
              <a:t>Krebs Cycle Summary</a:t>
            </a:r>
            <a:endParaRPr b="0" lang="en-US" sz="5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Requires Oxygen (Aerobic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Cyclical series of oxidation reactions that give off </a:t>
            </a:r>
            <a:r>
              <a:rPr b="1" lang="en-US" sz="3200" spc="-1" strike="noStrike">
                <a:solidFill>
                  <a:srgbClr val="ffcc66"/>
                </a:solidFill>
                <a:latin typeface="Comic Sans MS"/>
              </a:rPr>
              <a:t>CO</a:t>
            </a:r>
            <a:r>
              <a:rPr b="1" lang="en-US" sz="3200" spc="-1" strike="noStrike" baseline="-25000">
                <a:solidFill>
                  <a:srgbClr val="ffcc66"/>
                </a:solidFill>
                <a:latin typeface="Comic Sans MS"/>
              </a:rPr>
              <a:t>2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and produce </a:t>
            </a:r>
            <a:r>
              <a:rPr b="1" lang="en-US" sz="3200" spc="-1" strike="noStrike">
                <a:solidFill>
                  <a:srgbClr val="ffcc66"/>
                </a:solidFill>
                <a:latin typeface="Comic Sans MS"/>
              </a:rPr>
              <a:t>one ATP per cycl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Turns </a:t>
            </a:r>
            <a:r>
              <a:rPr b="1" lang="en-US" sz="3200" spc="-1" strike="noStrike">
                <a:solidFill>
                  <a:srgbClr val="ffcc66"/>
                </a:solidFill>
                <a:latin typeface="Comic Sans MS"/>
              </a:rPr>
              <a:t>twice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per glucose molecul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Produces </a:t>
            </a:r>
            <a:r>
              <a:rPr b="1" lang="en-US" sz="3200" spc="-1" strike="noStrike">
                <a:solidFill>
                  <a:srgbClr val="ffcc66"/>
                </a:solidFill>
                <a:latin typeface="Comic Sans MS"/>
              </a:rPr>
              <a:t>two ATP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Takes place in </a:t>
            </a:r>
            <a:r>
              <a:rPr b="1" lang="en-US" sz="3200" spc="-1" strike="noStrike">
                <a:solidFill>
                  <a:srgbClr val="ffcc66"/>
                </a:solidFill>
                <a:latin typeface="Comic Sans MS"/>
              </a:rPr>
              <a:t>matrix of mitochondria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66"/>
                </a:solidFill>
                <a:latin typeface="Comic Sans MS"/>
              </a:rPr>
              <a:t>Krebs Cycle Summary</a:t>
            </a:r>
            <a:endParaRPr b="0" lang="en-US" sz="5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Each turn of the Krebs Cycle also produces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3NADH, 1FADH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, and 2CO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329040" indent="-32904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Therefore, For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each Glucose</a:t>
            </a: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 molecule, the Krebs Cycle produces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6NADH, 2FADH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, 4CO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, and 2ATP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5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0" dur="5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66"/>
                </a:solidFill>
                <a:latin typeface="Comic Sans MS"/>
              </a:rPr>
              <a:t>Krebs Cycle</a:t>
            </a:r>
            <a:endParaRPr b="0" lang="en-US" sz="5400" spc="-1" strike="noStrike">
              <a:solidFill>
                <a:srgbClr val="ffcc66"/>
              </a:solidFill>
              <a:latin typeface="Comic Sans MS"/>
            </a:endParaRPr>
          </a:p>
        </p:txBody>
      </p:sp>
      <p:pic>
        <p:nvPicPr>
          <p:cNvPr id="222" name="Object 3" descr=""/>
          <p:cNvPicPr/>
          <p:nvPr/>
        </p:nvPicPr>
        <p:blipFill>
          <a:blip r:embed="rId1"/>
          <a:stretch/>
        </p:blipFill>
        <p:spPr>
          <a:xfrm>
            <a:off x="1371600" y="1371600"/>
            <a:ext cx="6324480" cy="480060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8"/>
          <p:cNvSpPr/>
          <p:nvPr/>
        </p:nvSpPr>
        <p:spPr>
          <a:xfrm>
            <a:off x="4419720" y="579132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4" name="Text Box 9"/>
          <p:cNvSpPr/>
          <p:nvPr/>
        </p:nvSpPr>
        <p:spPr>
          <a:xfrm>
            <a:off x="4267080" y="5791320"/>
            <a:ext cx="838440" cy="398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ATP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5" name="Text Box 10"/>
          <p:cNvSpPr/>
          <p:nvPr/>
        </p:nvSpPr>
        <p:spPr>
          <a:xfrm>
            <a:off x="380880" y="6469200"/>
            <a:ext cx="8763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NETS: 3NADH, 1ATP, 1FADH</a:t>
            </a:r>
            <a:r>
              <a:rPr b="1" lang="en-US" sz="24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, &amp; 2CO</a:t>
            </a:r>
            <a:r>
              <a:rPr b="1" lang="en-US" sz="24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omic Sans MS"/>
              </a:rPr>
              <a:t>Electron Transport Chain Summary</a:t>
            </a: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34 ATP</a:t>
            </a:r>
            <a:r>
              <a:rPr b="1" lang="en-US" sz="3200" spc="-1" strike="noStrike">
                <a:solidFill>
                  <a:srgbClr val="ffcc66"/>
                </a:solidFill>
                <a:latin typeface="Comic Sans MS"/>
              </a:rPr>
              <a:t> Produced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O</a:t>
            </a:r>
            <a:r>
              <a:rPr b="1" lang="en-US" sz="3200" spc="-1" strike="noStrike">
                <a:solidFill>
                  <a:srgbClr val="ffcc66"/>
                </a:solidFill>
                <a:latin typeface="Comic Sans MS"/>
              </a:rPr>
              <a:t> Produced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Comic Sans MS"/>
              </a:rPr>
              <a:t>Occurs Across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Inner Mitochondrial membran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Comic Sans MS"/>
              </a:rPr>
              <a:t>Uses coenzymes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NAD+ and FAD+ to accept e- from glucos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NADH = 3 ATP’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FAD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= 2 ATP’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Comic Sans MS"/>
              </a:rPr>
              <a:t>Chemical Structure of ATP</a:t>
            </a: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pic>
        <p:nvPicPr>
          <p:cNvPr id="103" name="Picture 10" descr="atp"/>
          <p:cNvPicPr/>
          <p:nvPr/>
        </p:nvPicPr>
        <p:blipFill>
          <a:blip r:embed="rId1"/>
          <a:stretch/>
        </p:blipFill>
        <p:spPr>
          <a:xfrm>
            <a:off x="685800" y="1523880"/>
            <a:ext cx="7696080" cy="453564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1"/>
          <p:cNvSpPr/>
          <p:nvPr/>
        </p:nvSpPr>
        <p:spPr>
          <a:xfrm>
            <a:off x="1066680" y="54100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3 Phosphate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4648320" y="556272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ibose Sugar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6" name="Text Box 13"/>
          <p:cNvSpPr/>
          <p:nvPr/>
        </p:nvSpPr>
        <p:spPr>
          <a:xfrm>
            <a:off x="4572000" y="167652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denine Bas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0033"/>
                </a:solidFill>
                <a:uFillTx/>
                <a:latin typeface="Comic Sans MS"/>
                <a:hlinkClick r:id="rId1"/>
              </a:rPr>
              <a:t>Electron Transport Chain Animation</a:t>
            </a: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2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2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Comic Sans MS"/>
              </a:rPr>
              <a:t>What Does ATP Do for You?</a:t>
            </a:r>
            <a:endParaRPr b="0" lang="en-US" sz="48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2209320"/>
            <a:ext cx="86104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It supplies YOU with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ffff00"/>
                </a:solidFill>
                <a:latin typeface="Comic Sans MS"/>
              </a:rPr>
              <a:t>ENERGY!</a:t>
            </a:r>
            <a:endParaRPr b="0" lang="en-US" sz="5400" spc="-1" strike="noStrike">
              <a:solidFill>
                <a:srgbClr val="ffffff"/>
              </a:solidFill>
              <a:latin typeface="Comic Sans MS"/>
            </a:endParaRPr>
          </a:p>
          <a:p>
            <a:pPr marL="30852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10" name="Picture 11" descr="ag00019_"/>
          <p:cNvPicPr/>
          <p:nvPr/>
        </p:nvPicPr>
        <p:blipFill>
          <a:blip r:embed="rId1"/>
          <a:stretch/>
        </p:blipFill>
        <p:spPr>
          <a:xfrm>
            <a:off x="2666880" y="2819520"/>
            <a:ext cx="3810240" cy="352404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Comic Sans MS"/>
              </a:rPr>
              <a:t>How Do We Get Energy From ATP?</a:t>
            </a:r>
            <a:endParaRPr b="0" lang="en-US" sz="40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120" y="2057400"/>
            <a:ext cx="35053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By breaking the high- energy bonds between the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last two phosphates in ATP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14" name="Picture 11" descr="Copy (3) of atp[1]"/>
          <p:cNvPicPr/>
          <p:nvPr/>
        </p:nvPicPr>
        <p:blipFill>
          <a:blip r:embed="rId1"/>
          <a:stretch/>
        </p:blipFill>
        <p:spPr>
          <a:xfrm>
            <a:off x="4267080" y="1905120"/>
            <a:ext cx="4343400" cy="434340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Comic Sans MS"/>
              </a:rPr>
              <a:t>What is the Process Called?</a:t>
            </a: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pic>
        <p:nvPicPr>
          <p:cNvPr id="117" name="Picture 4" descr="option2[1]"/>
          <p:cNvPicPr/>
          <p:nvPr/>
        </p:nvPicPr>
        <p:blipFill>
          <a:blip r:embed="rId1"/>
          <a:stretch/>
        </p:blipFill>
        <p:spPr>
          <a:xfrm>
            <a:off x="1066680" y="2057400"/>
            <a:ext cx="7315200" cy="4454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8960" y="1371240"/>
            <a:ext cx="601956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HYDROLYSIS (Adding 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O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0" y="342900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Black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0" name="Line 8"/>
          <p:cNvSpPr/>
          <p:nvPr/>
        </p:nvSpPr>
        <p:spPr>
          <a:xfrm>
            <a:off x="457200" y="3962520"/>
            <a:ext cx="60948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Comic Sans MS"/>
              </a:rPr>
              <a:t>How Does That Happen?</a:t>
            </a: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pic>
        <p:nvPicPr>
          <p:cNvPr id="123" name="Picture 6" descr="bd13684_"/>
          <p:cNvPicPr/>
          <p:nvPr/>
        </p:nvPicPr>
        <p:blipFill>
          <a:blip r:embed="rId1"/>
          <a:stretch/>
        </p:blipFill>
        <p:spPr>
          <a:xfrm>
            <a:off x="380880" y="1447920"/>
            <a:ext cx="2590920" cy="4114800"/>
          </a:xfrm>
          <a:prstGeom prst="rect">
            <a:avLst/>
          </a:prstGeom>
          <a:ln w="0">
            <a:noFill/>
          </a:ln>
        </p:spPr>
      </p:pic>
      <p:sp>
        <p:nvSpPr>
          <p:cNvPr id="124" name="WordArt 11"/>
          <p:cNvSpPr txBox="1"/>
          <p:nvPr/>
        </p:nvSpPr>
        <p:spPr>
          <a:xfrm>
            <a:off x="304920" y="5791320"/>
            <a:ext cx="22096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ATPas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pic>
        <p:nvPicPr>
          <p:cNvPr id="125" name="Picture 16" descr="Copy of C7_atp_2[1]"/>
          <p:cNvPicPr/>
          <p:nvPr/>
        </p:nvPicPr>
        <p:blipFill>
          <a:blip r:embed="rId2"/>
          <a:stretch/>
        </p:blipFill>
        <p:spPr>
          <a:xfrm>
            <a:off x="3429000" y="1447920"/>
            <a:ext cx="5181480" cy="518148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17"/>
          <p:cNvSpPr/>
          <p:nvPr/>
        </p:nvSpPr>
        <p:spPr>
          <a:xfrm>
            <a:off x="228600" y="175248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An Enzyme!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Comic Sans MS"/>
              </a:rPr>
              <a:t>How is ATP Re-Made?</a:t>
            </a: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The reverse of the previous process occurs.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30" name="Picture 6" descr="equil[1]"/>
          <p:cNvPicPr/>
          <p:nvPr/>
        </p:nvPicPr>
        <p:blipFill>
          <a:blip r:embed="rId1"/>
          <a:stretch/>
        </p:blipFill>
        <p:spPr>
          <a:xfrm>
            <a:off x="5486400" y="2819520"/>
            <a:ext cx="3173400" cy="380988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7"/>
          <p:cNvSpPr/>
          <p:nvPr/>
        </p:nvSpPr>
        <p:spPr>
          <a:xfrm>
            <a:off x="838080" y="327672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Another Enzyme is used!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838080" y="4952880"/>
            <a:ext cx="41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ATP Synthetase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Comic Sans MS"/>
              </a:rPr>
              <a:t>The ADP-ATP Cycle</a:t>
            </a:r>
            <a:endParaRPr b="0" lang="en-US" sz="4800" spc="-1" strike="noStrike">
              <a:solidFill>
                <a:srgbClr val="ffcc66"/>
              </a:solidFill>
              <a:latin typeface="Comic Sans MS"/>
            </a:endParaRPr>
          </a:p>
        </p:txBody>
      </p:sp>
      <p:pic>
        <p:nvPicPr>
          <p:cNvPr id="135" name="Picture 3" descr="ATP-ADP Cycle"/>
          <p:cNvPicPr/>
          <p:nvPr/>
        </p:nvPicPr>
        <p:blipFill>
          <a:blip r:embed="rId1"/>
          <a:stretch/>
        </p:blipFill>
        <p:spPr>
          <a:xfrm>
            <a:off x="2057400" y="1600200"/>
            <a:ext cx="4876920" cy="487692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8"/>
          <p:cNvSpPr/>
          <p:nvPr/>
        </p:nvSpPr>
        <p:spPr>
          <a:xfrm>
            <a:off x="304920" y="304812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ATP-ase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7" name="Line 9"/>
          <p:cNvSpPr/>
          <p:nvPr/>
        </p:nvSpPr>
        <p:spPr>
          <a:xfrm flipV="1">
            <a:off x="1676520" y="2057040"/>
            <a:ext cx="1904760" cy="1143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8" name="Text Box 10"/>
          <p:cNvSpPr/>
          <p:nvPr/>
        </p:nvSpPr>
        <p:spPr>
          <a:xfrm>
            <a:off x="6400800" y="266688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ATP Synthetase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9" name="Line 11"/>
          <p:cNvSpPr/>
          <p:nvPr/>
        </p:nvSpPr>
        <p:spPr>
          <a:xfrm flipH="1">
            <a:off x="4723920" y="3809880"/>
            <a:ext cx="205740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0" name="Line 12"/>
          <p:cNvSpPr/>
          <p:nvPr/>
        </p:nvSpPr>
        <p:spPr>
          <a:xfrm flipH="1">
            <a:off x="3657240" y="3809880"/>
            <a:ext cx="3048120" cy="1676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5T15:36:14Z</dcterms:created>
  <dc:creator>Cheryl massengale</dc:creator>
  <dc:description/>
  <dc:language>en-US</dc:language>
  <cp:lastModifiedBy>LEGION</cp:lastModifiedBy>
  <dcterms:modified xsi:type="dcterms:W3CDTF">2016-12-07T12:34:45Z</dcterms:modified>
  <cp:revision>36</cp:revision>
  <dc:subject/>
  <dc:title>ADP, ATP and Cellular Respiration Powerpoint</dc:title>
</cp:coreProperties>
</file>